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0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4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cashreg.wav" ContentType="audio/x-wav"/>
  <Override PartName="/ppt/media/image13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693-2608-4684-88B1-2814A832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A91-59ED-426C-9084-8D08845E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7382-DC91-420B-B2B2-4027446E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66F-5D5E-456D-BD03-E4C1CD70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7573-C179-4CFD-B97E-5DB1977B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12F6-684D-4A28-B18B-35B6C8C5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1D29-2603-4810-B5A3-D32F3E7E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B21B-B86F-4794-82F9-63AF271E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0AE5-F460-4D76-9BB3-399A4584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9F3C-8D09-46B6-A9E9-C1000C8C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47FC-B4C3-40EE-951D-C52861F5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D4A-2EAB-405B-A69A-0BC8BA83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A54D-887E-4E56-9FD6-E76CA484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BC3C-BBDA-4B45-B0B5-95F29BFD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0BF9-D5E2-47EB-B57F-B604F0CD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980E-539F-4AB6-9279-3815CAE9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8E02-A208-44FA-B7B0-5271011F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E0E7D-B208-47CE-BE8F-AF393F4C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6C6B2-810A-4C05-BBAE-C4938868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E2408-DA99-480A-AC54-2B7025CA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643CA-CE43-4D18-ABAC-20C2041D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F0E3-C0EF-4809-BDCB-BD636C8F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1C8-6D04-4166-B57A-088B792A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CD7F-4DAC-44AF-B93F-7DF70CBB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F180A-D771-4CA5-A137-F17670E5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21178-E60F-40F0-B97B-3E695489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008C2-DAE7-4240-980D-85CC1DDA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A3B89-3CF6-462F-8FB3-ABB5E76E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C1FA-5791-49D1-AF40-A87179D0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BBEB-C352-43ED-AEA6-33507D1C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5395-5821-4731-811B-E364AA5C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85E20-A9EF-42FF-BDEE-3329770D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D8DB5-CE81-4AFA-A28E-EB07252B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696-B3CD-4ADF-B154-E283E072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AC9ED-B8DE-4F4E-BEBA-1C5D5E80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A1C7F-2C81-4CF6-9D49-78A5F28D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FE50B-6E32-41CE-9947-F560586F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01881-0BCF-48A9-B080-48C990A5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47E43-5310-41A2-8A26-5B41056F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40CD3-CE86-4C05-894E-186A0A97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38F8B-A65E-4DED-AC42-2645C4B1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4B89B-C558-4733-BC66-274E5CE4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A90FB-919A-464D-BFE5-1CA54C05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39DF0-CFED-4514-9497-1DFC9278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AA3-73DA-465A-A1DA-5B93100B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C1B54-E055-4ED7-B2DE-ACECD067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3E3E3-8906-4DC2-9D3F-B1435D4E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6FD94-528D-48E4-90FC-D256C9AA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6500B-A602-45F2-AA46-626C9B14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076CA-7F57-4CB8-A220-CC14DE6B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ECCBD-7237-4202-A67E-FCD12227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90BE0-987F-47B3-B3F7-FBECCC60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E3ABB-745E-4843-833D-216621C8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36396-FB0F-4492-B3AA-60694739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82FC8-C3E6-491E-A0C4-95807494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68B-85D1-48EC-9E21-5C138980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7143B-00BE-43C2-86BB-942D0A70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A7AE8-A2C2-49C3-8AE3-F0FFA01B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65DAA-6508-4103-89F7-417BC0F5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2859B-5ED0-458F-94FB-CC358EF2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49D68-88C6-467B-9EA7-DF7E34A9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9499D-29F8-4FB2-9576-7D6189B8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0D0C7-E54E-4D63-86CC-F88B4329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BB71B-0178-410C-A91A-0CF973CC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4345A-80A6-4C17-8CAC-BB8B4B1D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3C88F-8510-4BFA-A31E-9BCFC574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60E-3BEF-472B-894D-DA015280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A2F7C-B365-478C-A284-158221F1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E04F1-311C-4701-A208-EEF90B7A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1285D-21C8-4DAD-A839-B87319B9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9F76F-80B5-44BB-A257-90D7D15F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4542D-75E2-4EC8-9B0F-9755626F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D78FC-22BF-4595-B124-DFFD4456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529A5-D0A8-4024-A316-A2130407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2C09A-ED68-420E-8DB3-13AD2E22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733B2-9814-4C71-9115-70F25010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567B4-9410-4A62-B435-493C82CA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473-D4BD-4076-AED9-6BFFD78E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0D052-CFD4-422D-AC34-25F72EF1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26B22-AB08-415C-A106-9F652A1F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CD62C-D3D7-424B-88F1-7E7A2EA1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A5905-CFF4-4E0E-B937-47AFEEC6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D53AF-7750-4BEC-AB80-CBE7C246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B58-2035-4D51-80D4-83A80D4E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A532-5623-48EE-B77F-46022BA3737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8B6E-418F-4462-89F3-1A393E81F2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300D-9109-4DA7-88DA-C2B90702EB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1FD6-5D5E-4F3D-A645-096D14D6366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4B9D-DBD8-4848-BA21-5DC4AA3D767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327C-EAA4-4E7C-8849-9CBCE8DB9EB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E63B-F9C6-4F44-8F6C-13DA96CF674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33520" y="5105160"/>
            <a:ext cx="807696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13 Question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House Majority Lead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enate Majority W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enate Minority Lead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Representative from the Tennesse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House Minority W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peaker of the Hous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3" descr="220px-John_Boehner_official_portrait.jpg"/>
          <p:cNvPicPr/>
          <p:nvPr/>
        </p:nvPicPr>
        <p:blipFill>
          <a:blip r:embed="rId2"/>
          <a:stretch/>
        </p:blipFill>
        <p:spPr>
          <a:xfrm>
            <a:off x="3048120" y="22860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enate Majority Lead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225px-Harry_Reid_official_portrait_2009.jpg"/>
          <p:cNvPicPr/>
          <p:nvPr/>
        </p:nvPicPr>
        <p:blipFill>
          <a:blip r:embed="rId2"/>
          <a:stretch/>
        </p:blipFill>
        <p:spPr>
          <a:xfrm>
            <a:off x="1447920" y="1828800"/>
            <a:ext cx="2455920" cy="2284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are the two Senators from Tennesse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peaker of the Hous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225px-Lamar_Alexander_official_portrait.jpg"/>
          <p:cNvPicPr/>
          <p:nvPr/>
        </p:nvPicPr>
        <p:blipFill>
          <a:blip r:embed="rId2"/>
          <a:stretch/>
        </p:blipFill>
        <p:spPr>
          <a:xfrm>
            <a:off x="685800" y="1752480"/>
            <a:ext cx="2857680" cy="35686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225px-Bobcorker.jpg"/>
          <p:cNvPicPr/>
          <p:nvPr/>
        </p:nvPicPr>
        <p:blipFill>
          <a:blip r:embed="rId3"/>
          <a:stretch/>
        </p:blipFill>
        <p:spPr>
          <a:xfrm>
            <a:off x="5029200" y="1752480"/>
            <a:ext cx="251460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4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House Minority Lead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47" name="Content Placeholder 3" descr="225px-Speaker_Nancy_Pelosi.jpg"/>
          <p:cNvPicPr/>
          <p:nvPr/>
        </p:nvPicPr>
        <p:blipFill>
          <a:blip r:embed="rId2"/>
          <a:stretch/>
        </p:blipFill>
        <p:spPr>
          <a:xfrm>
            <a:off x="1447920" y="19051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President Pro Tempo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1" name="Content Placeholder 3" descr="165px-Daniel_Inouye,_official_Senate_photo_portrait,_2008.jpg"/>
          <p:cNvPicPr/>
          <p:nvPr/>
        </p:nvPicPr>
        <p:blipFill>
          <a:blip r:embed="rId2"/>
          <a:stretch/>
        </p:blipFill>
        <p:spPr>
          <a:xfrm>
            <a:off x="990720" y="1981080"/>
            <a:ext cx="289548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House Majority W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225px-McCarthyofficial.jpg"/>
          <p:cNvPicPr/>
          <p:nvPr/>
        </p:nvPicPr>
        <p:blipFill>
          <a:blip r:embed="rId2"/>
          <a:stretch/>
        </p:blipFill>
        <p:spPr>
          <a:xfrm>
            <a:off x="1219320" y="1828800"/>
            <a:ext cx="2143080" cy="2619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President of the Senat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joe biden"/>
          <p:cNvPicPr/>
          <p:nvPr/>
        </p:nvPicPr>
        <p:blipFill>
          <a:blip r:embed="rId2"/>
          <a:stretch/>
        </p:blipFill>
        <p:spPr>
          <a:xfrm>
            <a:off x="1066680" y="1905120"/>
            <a:ext cx="150516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enate Minority W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enate Majority Lead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225px-Jon_Kyl,_official_109th_Congress_photo.jpg"/>
          <p:cNvPicPr/>
          <p:nvPr/>
        </p:nvPicPr>
        <p:blipFill>
          <a:blip r:embed="rId2"/>
          <a:stretch/>
        </p:blipFill>
        <p:spPr>
          <a:xfrm>
            <a:off x="762120" y="1828800"/>
            <a:ext cx="214308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House Majority Lead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225px-Eric_Cantor_headshot.png"/>
          <p:cNvPicPr/>
          <p:nvPr/>
        </p:nvPicPr>
        <p:blipFill>
          <a:blip r:embed="rId2"/>
          <a:stretch/>
        </p:blipFill>
        <p:spPr>
          <a:xfrm>
            <a:off x="1066680" y="1905120"/>
            <a:ext cx="214308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enate Majority W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225px-Richard_Durbin_official_photo.jpg"/>
          <p:cNvPicPr/>
          <p:nvPr/>
        </p:nvPicPr>
        <p:blipFill>
          <a:blip r:embed="rId2"/>
          <a:stretch/>
        </p:blipFill>
        <p:spPr>
          <a:xfrm>
            <a:off x="609480" y="18288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enate Minority Lead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225px-Sen_Mitch_McConnell_official_cropped.jpg"/>
          <p:cNvPicPr/>
          <p:nvPr/>
        </p:nvPicPr>
        <p:blipFill>
          <a:blip r:embed="rId2"/>
          <a:stretch/>
        </p:blipFill>
        <p:spPr>
          <a:xfrm>
            <a:off x="1143000" y="1752480"/>
            <a:ext cx="220968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Representative from the Tennesse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79" name="Content Placeholder 4" descr="225px-Chuck_Flieschmann,_Official_Portrait,_112th_Congress.jpg"/>
          <p:cNvPicPr/>
          <p:nvPr/>
        </p:nvPicPr>
        <p:blipFill>
          <a:blip r:embed="rId2"/>
          <a:stretch/>
        </p:blipFill>
        <p:spPr>
          <a:xfrm>
            <a:off x="457200" y="1676520"/>
            <a:ext cx="2857680" cy="4305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House Minority W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are the two Senators from Tennesse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83" name="Content Placeholder 3" descr="225px-Steny_Hoyer,_official_photo_portrait,_2008.jpg"/>
          <p:cNvPicPr/>
          <p:nvPr/>
        </p:nvPicPr>
        <p:blipFill>
          <a:blip r:embed="rId2"/>
          <a:stretch/>
        </p:blipFill>
        <p:spPr>
          <a:xfrm>
            <a:off x="685800" y="1752480"/>
            <a:ext cx="2857680" cy="3568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House Minority Lead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President Pro Tempo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House Majority W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President of the Senat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enate Minority W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7:20:36Z</dcterms:created>
  <dc:creator>SysAdmin</dc:creator>
  <dc:description/>
  <dc:language>en-US</dc:language>
  <cp:lastModifiedBy>SysAdmin</cp:lastModifiedBy>
  <dcterms:modified xsi:type="dcterms:W3CDTF">2012-02-21T16:09:15Z</dcterms:modified>
  <cp:revision>16</cp:revision>
  <dc:subject/>
  <dc:title>House/Senate Leadership Review</dc:title>
</cp:coreProperties>
</file>